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CAMERA.WAV" ContentType="audio/x-wav"/>
  <Override PartName="/ppt/media/image10.png" ContentType="image/png"/>
  <Override PartName="/ppt/media/image7.jpeg" ContentType="image/jpe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6D92-0594-4C62-A80C-2606D59D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by producing more cells, not cells getting bigger same size now as baby, size or organism depends on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enables multicellular organisims to grow and develop from a single fertilized egg – one single cell can divide to form a multicellular hu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grow a little bit ex fat cells don’t divide once reach puberty –but can grow much la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A61B-D805-429C-90B9-0B70B032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7C7B-312C-4033-9FF3-DBFBBB9B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E8D9-4632-48F7-ADE3-E2D6E72F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27FD-C9CB-489A-BD3D-900D9D1D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960D-6087-47DC-81C5-F4D5E74B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8FC1-AA72-4340-A492-AAA6191B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6358-131E-4F09-ADF1-E0AAEAA9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C92D-69C5-4E2E-AD8E-D3ECE0D0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40D0-9799-471C-8DA7-EF866A92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9953-3FE7-450E-AD80-D28D70E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40A9-810D-42DD-AD87-F543DE42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1146-B4D8-41BF-97A9-C9449323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525A-9EFD-4FDB-A459-174951DE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20B4-C29E-4AF4-B36C-F357F86C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7833-A450-434A-BC24-46B3AC10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9BCE-3072-47A2-92C1-3FF885A5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BFC2-7155-4778-8989-D24B590C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6A1B-2D21-46B6-8D0A-B35D807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0A44-1010-4704-AFFE-63B48D71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D518-82CD-4097-A6E0-84339DF3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D103-CBCC-4C31-B7D3-A700DDD5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EE53-DDE6-4509-8DA9-B31DB32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16C3-8191-4FD9-972C-7A36225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05E6-4493-403F-9E86-EA951DFB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FFA4-DD60-4D7B-BF58-7983B016C7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966C-FD46-4A59-BA6A-18BE436E25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19360" y="990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t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2332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nd Why Cells Div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46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n do cells divid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wth of a multi-cellular organism - due to increase in # of cells, not size of cell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not growing in size still produce new cells to replace o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2117880"/>
            <a:ext cx="5715000" cy="4740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romat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ils up into visible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ntrio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gin to migrate to opposite sides of th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cleus begins to dissappear as nuclear envelope and nucleolus disinteg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267080" y="1998720"/>
            <a:ext cx="4876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43200" y="2106720"/>
            <a:ext cx="6400800" cy="4505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has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pindle fib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form between centri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And attach to chromos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95680" y="2300400"/>
            <a:ext cx="4343400" cy="4217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7720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mosomes line up at the center of the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along the equato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shortest ph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a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matids split and one is pulled to each of the poles; centromere fir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chromatid is ident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copy of each chromosome goes to each side (po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32200" y="1600200"/>
            <a:ext cx="377028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562720" y="2286000"/>
            <a:ext cx="2666880" cy="3505320"/>
          </a:xfrm>
          <a:custGeom>
            <a:avLst/>
            <a:gdLst/>
            <a:ahLst/>
            <a:rect l="l" t="t" r="r" b="b"/>
            <a:pathLst>
              <a:path w="1680" h="2208">
                <a:moveTo>
                  <a:pt x="144" y="0"/>
                </a:moveTo>
                <a:lnTo>
                  <a:pt x="1632" y="144"/>
                </a:lnTo>
                <a:lnTo>
                  <a:pt x="1680" y="2208"/>
                </a:lnTo>
                <a:lnTo>
                  <a:pt x="0" y="2112"/>
                </a:lnTo>
                <a:lnTo>
                  <a:pt x="144" y="0"/>
                </a:lnTo>
                <a:close/>
              </a:path>
            </a:pathLst>
          </a:custGeom>
          <a:noFill/>
          <a:ln w="5724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loph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72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nal phase of mit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romatids reach opposite ends of the cel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posite events of prophas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romosomes unwind into chromat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pindle breaks dow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uclear envelope forms around 2 new sets of chromosomes (to create 2 new nuclei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ucleolus forms in each nucle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ytokinesis begins (before telophase is finished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44880" y="1600200"/>
            <a:ext cx="364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d of Mit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clei go back into inter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tokinesis be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29172"/>
          <a:stretch/>
        </p:blipFill>
        <p:spPr>
          <a:xfrm>
            <a:off x="1066680" y="2590920"/>
            <a:ext cx="6553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ytokine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 Cleavage Furrow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brane pinches off and half of the cell contents go to each new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aught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lant Cell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s Cell Pl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plants have a rigid cell wall, the plasma membrane does not pinch in; a cell plate forms across the equat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5261"/>
          <a:stretch/>
        </p:blipFill>
        <p:spPr>
          <a:xfrm>
            <a:off x="7459560" y="4572000"/>
            <a:ext cx="168444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0" r="0" b="5179"/>
          <a:stretch/>
        </p:blipFill>
        <p:spPr>
          <a:xfrm>
            <a:off x="5257800" y="4419720"/>
            <a:ext cx="2219400" cy="243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rcRect l="0" t="0" r="48840" b="7580"/>
          <a:stretch/>
        </p:blipFill>
        <p:spPr>
          <a:xfrm>
            <a:off x="6019920" y="304920"/>
            <a:ext cx="236376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58140" t="12634" r="4650" b="45477"/>
          <a:stretch/>
        </p:blipFill>
        <p:spPr>
          <a:xfrm>
            <a:off x="3809880" y="4191120"/>
            <a:ext cx="13669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4:50:20Z</dcterms:created>
  <dc:creator>Tricia</dc:creator>
  <dc:description/>
  <dc:language>en-US</dc:language>
  <cp:lastModifiedBy>Tricia</cp:lastModifiedBy>
  <dcterms:modified xsi:type="dcterms:W3CDTF">2007-01-31T14:53:50Z</dcterms:modified>
  <cp:revision>2</cp:revision>
  <dc:subject/>
  <dc:title>Mitosis and Meiosis</dc:title>
</cp:coreProperties>
</file>